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CAA-1235-4128-BDC4-58EABD58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5BF-2A1E-4DE4-9ADD-D1F105E4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697-AA58-4E61-914A-69F0C7D2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4F6-D052-4C64-8BA4-3E8082A0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960-4218-4F82-9E5F-D87B3FD8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3DE-8181-4FE6-83E4-24D31172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B03-654D-4906-970E-7318452A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BB8-2427-4930-BCBF-7B73CCE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933-6DAE-407D-8198-B0AAFA3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C4B-16AB-42BF-B854-1A7486C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F01-3504-41C2-A3EF-B1F0C41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2E8-F5C0-48CD-9108-AAC5EF4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4638-21F2-4CAC-B7CD-4DE7EE2929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die he xianyan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和鲜艳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hei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neng shi you yan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Content Placeholder 3" descr="b.jpg"/>
          <p:cNvPicPr/>
          <p:nvPr/>
        </p:nvPicPr>
        <p:blipFill>
          <a:blip r:embed="rId1"/>
          <a:stretch/>
        </p:blipFill>
        <p:spPr>
          <a:xfrm>
            <a:off x="1859040" y="1828800"/>
            <a:ext cx="34178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die he s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d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zhongde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o ji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o shen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 youyo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ibang he s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Content Placeholder 3" descr="wwwww.jpg"/>
          <p:cNvPicPr/>
          <p:nvPr/>
        </p:nvPicPr>
        <p:blipFill>
          <a:blip r:embed="rId1"/>
          <a:stretch/>
        </p:blipFill>
        <p:spPr>
          <a:xfrm>
            <a:off x="3952800" y="3287880"/>
            <a:ext cx="771480" cy="717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eil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fenhong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o xiang hudi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eiyi you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lanse</a:t>
            </a:r>
            <a:br>
              <a:rPr sz="4000"/>
            </a:br>
            <a:r>
              <a:rPr b="0" lang="ja-JP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蓝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lu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Content Placeholder 3" descr="g.jpg"/>
          <p:cNvPicPr/>
          <p:nvPr/>
        </p:nvPicPr>
        <p:blipFill>
          <a:blip r:embed="rId1"/>
          <a:stretch/>
        </p:blipFill>
        <p:spPr>
          <a:xfrm>
            <a:off x="3929040" y="343044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amen he ho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che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</a:t>
            </a:r>
            <a:br>
              <a:rPr sz="4000"/>
            </a:br>
            <a:r>
              <a:rPr b="0" lang="ja-JP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huang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Content Placeholder 3" descr="y.jpg"/>
          <p:cNvPicPr/>
          <p:nvPr/>
        </p:nvPicPr>
        <p:blipFill>
          <a:blip r:embed="rId1"/>
          <a:stretch/>
        </p:blipFill>
        <p:spPr>
          <a:xfrm>
            <a:off x="3967200" y="34401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bai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itsuser</cp:lastModifiedBy>
  <dcterms:modified xsi:type="dcterms:W3CDTF">2009-03-17T15:47:15Z</dcterms:modified>
  <cp:revision>11</cp:revision>
  <dc:subject/>
  <dc:title>Butterflies are colorful Hudie he xianyan</dc:title>
</cp:coreProperties>
</file>